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980238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8FD0-73A0-4518-B517-2A24C56CE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AC27-78B2-4D3B-AC55-D0DDCD5AA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26CE46-866A-45F8-8F0E-E350D12E9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3ED1D9-7EE6-40A1-8E6A-1D176FD4D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37E4C2-1438-4BAD-9459-3DC56A191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EF6F53-E96C-45B8-9251-0B942938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81B009-70EF-4F49-9B75-ED5700E9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E3E341-ED0C-4BD8-B5DC-F59D367B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E39564-38E6-4A33-8304-2E6F73962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49B3BF-4C50-4E67-A7EB-0A39AB5D0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8EB8C9-1723-435B-A9F8-B740A33EF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174E-CD7C-49AD-BD2A-F158B1513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3A60-05B7-407F-9DBB-ABFA702BE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8DE2-EAC3-422A-BAAC-BF0231026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A100-E109-4919-A412-2C77169C0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C3BCC9-547D-44CF-9EED-458021A8E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D42417-061B-4138-BCFA-11F4C9067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12334F-136A-417D-94AC-A532A32A5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7762-3482-4347-BCE0-63667268E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DB7886-9015-4A8B-B9EC-86B5A4514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D51F15-EE1B-43B6-944C-0D0167E16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39CCDD-FED7-4AD6-B442-6A3080690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AD1E27-7213-4908-8DED-76971400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42C146-5DAA-4539-BF03-71060A1F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A302A7-5CF5-4378-B3C3-4F8BD24E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1F1815-F224-4C79-AAAE-AF42B67DE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00CF64-AEE9-4239-8FFC-8599C9B66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CEC009-2025-486D-8724-63E3E3977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DFE7E72-4515-4951-8D6B-CC5849FFA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8065-27B3-44E5-8F8B-37FB267E3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226CD7-79AA-4A88-A861-2F1BA9313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8A8B8A-6C09-4AB3-8816-D403BC970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2EB364-02E7-4F17-B2BA-B83207D63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3FEB07-3A27-4228-AD3A-3691E4222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B834873-9FF9-410B-BF2A-A3D377EE8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52168F-410C-4F4D-9E03-CD4678211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224077-9DBD-45F4-85ED-760FD4F7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E5B364F-B479-40A9-9B70-0C3AF7E6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808A2E-E29E-4CC0-9A71-C9F86ECC5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6290F5A-BA56-47E7-9420-F49B78561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2450-F102-42CB-9905-D186A1C11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9AC4705-0152-40BD-9B25-B20E6BA9C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689B4FD-13E3-4D11-98DB-DB1F8B755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535EAB3-B690-4CA3-BD7F-1A1C73DAA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2E912C-08F1-4F27-B93C-B945695A0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2297B84-E44A-4FD6-877E-E9EE08B38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D23FA8-B989-446C-A89A-9FF0F5731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2073AF-DDF6-4A43-BF75-722CA64E9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BE1DFF-A8A1-4458-8881-568F6F72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2D431E-F1C3-440C-BFD2-BCCFDD9E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F4741A-6DC6-4A38-A2A5-0AF33134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17D1-0421-4E6B-AB3F-76348DB5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B1BC225-2CC2-4D7D-B680-290E97D46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275BFF-ED55-4BFA-8841-4C3D7CBA8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9A43FCF-C912-4B79-89FE-93CCF303C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CA7E61B-DAF2-47C9-A101-D04D820E4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9BC72F6-E73C-4F82-A11E-E8B7D80C7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2EFE8D9-2679-4C39-9EE6-9090B1744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F452CCE-D605-4818-AD52-D187E86FD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FA01B19-8DDB-4E1A-A562-BECD8603E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41B60DB-41AE-4644-AFE6-54B9DF243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1BE61E7-6109-4CA1-9C7D-4026B8F3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B0EC-B69C-48E1-8CF0-37BE2696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7635382-A90F-496E-8A6C-5B541BC2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7C6D794-E282-4CF9-9B29-7D1B547D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697CD1C-2D86-42B1-9B7A-9438B44D5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88FEF76-3F41-4040-854C-5ACD77FE8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1CFB755-666E-499E-996A-3A011343C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6C9B898-7D9A-44FC-A093-4D79C93D1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F274501-F492-4808-B2F9-661C90492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8155BFC-F2E4-4C60-8741-F3D99A72F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55BB91A-2127-4DAC-AA5A-E7063CD36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56BBD02-4E7A-43AD-B97F-FF79F6067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FF9D-4F06-4575-B015-10E2E002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7A72B74-0435-41FC-943A-777C0BCF0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50B474D-1166-4B03-8372-15F9934A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41C41A1-E36C-44F3-9CD6-C0077EC5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08E1DBC-5704-4C9C-9F8A-1ADB4F1D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78A4CAD-9435-4C3D-B255-75DFFC29B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EB9B127-8805-40E3-A169-A82B22F79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858BD02-5E88-4EA9-AE8D-53BCAA957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2783F3-315E-4FAD-A262-779E93756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73416E-6AA0-4234-B5F1-4BD458F98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EB8E0F-0997-45DF-807F-429F89B3F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07185-C2D3-4E57-8CF1-0AE3C91F715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7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9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10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71956-F713-423F-9F5B-A475E24A695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2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3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7C048-C2BE-4DD6-B680-3965B1FE69C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4"/>
          </p:nvPr>
        </p:nvSpPr>
        <p:spPr>
          <a:xfrm>
            <a:off x="4495320" y="6356520"/>
            <a:ext cx="1143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5"/>
          </p:nvPr>
        </p:nvSpPr>
        <p:spPr>
          <a:xfrm>
            <a:off x="5790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6"/>
          </p:nvPr>
        </p:nvSpPr>
        <p:spPr>
          <a:xfrm>
            <a:off x="1966680" y="6356520"/>
            <a:ext cx="53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9443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F2E0F-2D3C-4662-99DD-BDE372EF5ABD}" type="slidenum">
              <a:rPr b="0" lang="en-US" sz="1200" spc="-1" strike="noStrike">
                <a:solidFill>
                  <a:srgbClr val="19443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8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9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5A337-DBF7-4B69-BF56-E311F3E60CA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20"/>
          </p:nvPr>
        </p:nvSpPr>
        <p:spPr>
          <a:xfrm>
            <a:off x="4495320" y="6356520"/>
            <a:ext cx="1143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21"/>
          </p:nvPr>
        </p:nvSpPr>
        <p:spPr>
          <a:xfrm>
            <a:off x="5790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2"/>
          </p:nvPr>
        </p:nvSpPr>
        <p:spPr>
          <a:xfrm>
            <a:off x="1966680" y="6356520"/>
            <a:ext cx="53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9443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10F2B-CBCD-4852-8D73-7E00A6B142DD}" type="slidenum">
              <a:rPr b="0" lang="en-US" sz="1200" spc="-1" strike="noStrike">
                <a:solidFill>
                  <a:srgbClr val="19443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4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5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7692E-641D-4481-9616-2340661896F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93560" y="3776400"/>
            <a:ext cx="7196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800" spc="-1" strike="noStrike">
                <a:solidFill>
                  <a:srgbClr val="194431"/>
                </a:solidFill>
                <a:latin typeface="Book Antiqua"/>
              </a:rPr>
              <a:t>Le pronom « en »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493560" y="5257440"/>
            <a:ext cx="7196400" cy="98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194431"/>
                </a:solidFill>
                <a:latin typeface="Book Antiqua"/>
              </a:rPr>
              <a:t>Révision: p60-61 dans le cahier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Exemples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86" name="Rectangle 2"/>
          <p:cNvSpPr/>
          <p:nvPr/>
        </p:nvSpPr>
        <p:spPr>
          <a:xfrm>
            <a:off x="504720" y="1828800"/>
            <a:ext cx="776628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Vous ne mettez pas de la mayonnaise sur vos sandwichs.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1)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2)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3)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Exemples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88" name="Rectangle 2"/>
          <p:cNvSpPr/>
          <p:nvPr/>
        </p:nvSpPr>
        <p:spPr>
          <a:xfrm>
            <a:off x="314280" y="1814400"/>
            <a:ext cx="851544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Elle veut mettre du fromage sur son hamburger.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1)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2)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3)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Exemples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90" name="Rectangle 2"/>
          <p:cNvSpPr/>
          <p:nvPr/>
        </p:nvSpPr>
        <p:spPr>
          <a:xfrm>
            <a:off x="299880" y="1882800"/>
            <a:ext cx="884412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Martin et Daniel ne veulent pas mettre de l’ananas sur leurs coupes glacées.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1)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2)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3)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BIG RULE: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0" y="1711440"/>
            <a:ext cx="9144000" cy="51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ook Antiqua"/>
              </a:rPr>
              <a:t>Always put “EN” before the </a:t>
            </a:r>
            <a:r>
              <a:rPr b="1" lang="en-US" sz="5400" spc="-1" strike="noStrike" u="sng">
                <a:solidFill>
                  <a:srgbClr val="ffffff"/>
                </a:solidFill>
                <a:uFillTx/>
                <a:latin typeface="Book Antiqua"/>
              </a:rPr>
              <a:t>LAST VERB</a:t>
            </a:r>
            <a:r>
              <a:rPr b="0" lang="en-US" sz="5400" spc="-1" strike="noStrike">
                <a:solidFill>
                  <a:srgbClr val="ffffff"/>
                </a:solidFill>
                <a:latin typeface="Book Antiqua"/>
              </a:rPr>
              <a:t> in the sentence!!!!</a:t>
            </a:r>
            <a:endParaRPr b="0" lang="en-US" sz="5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circl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4" dur="5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Verbes for Duotangs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5000" y="1687320"/>
            <a:ext cx="36576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oir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o drink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765000" y="2649240"/>
            <a:ext cx="365760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Je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boi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u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boi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Il/Elle/On/Qui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boit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Nous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           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buvon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Vous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buvez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Ils/Elles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          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boivent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719600" y="1687320"/>
            <a:ext cx="36576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ett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o pu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719600" y="2649240"/>
            <a:ext cx="365760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Je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met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u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met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Il/Elle/On/Qui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met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Nous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          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metton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Vous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           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mettez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Ils/Elles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          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mettent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800" spc="-1" strike="noStrike">
                <a:solidFill>
                  <a:srgbClr val="194431"/>
                </a:solidFill>
                <a:latin typeface="Book Antiqua"/>
              </a:rPr>
              <a:t>Quel est le sens en anglais de « en » ?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Book Antiqua"/>
              </a:rPr>
              <a:t>« en » veut dire « ___________ » en anglais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Qu’est-ce que je fais?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Book Antiqua"/>
              </a:rPr>
              <a:t>Les mêmes instructions que quand on a utilisé </a:t>
            </a:r>
            <a:r>
              <a:rPr b="1" lang="fr-CA" sz="2800" spc="-1" strike="noStrike" u="sng">
                <a:solidFill>
                  <a:srgbClr val="ffffff"/>
                </a:solidFill>
                <a:uFillTx/>
                <a:latin typeface="Book Antiqua"/>
              </a:rPr>
              <a:t>le pronom « y »</a:t>
            </a:r>
            <a:r>
              <a:rPr b="0" lang="fr-CA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Book Antiqua"/>
              </a:rPr>
              <a:t>Maintenant, nous cherchons ______________________________________ pour éliminer dans la phrase, </a:t>
            </a:r>
            <a:br>
              <a:rPr sz="2800"/>
            </a:br>
            <a:r>
              <a:rPr b="0" lang="fr-CA" sz="2800" spc="-1" strike="noStrike">
                <a:solidFill>
                  <a:srgbClr val="ffffff"/>
                </a:solidFill>
                <a:latin typeface="Book Antiqua"/>
              </a:rPr>
              <a:t>pas </a:t>
            </a:r>
            <a:r>
              <a:rPr b="1" lang="fr-CA" sz="2800" spc="-1" strike="noStrike" u="sng">
                <a:solidFill>
                  <a:srgbClr val="ffffff"/>
                </a:solidFill>
                <a:uFillTx/>
                <a:latin typeface="Book Antiqua"/>
              </a:rPr>
              <a:t>À + PLACE</a:t>
            </a:r>
            <a:r>
              <a:rPr b="0" lang="fr-CA" sz="2800" spc="-1" strike="noStrike">
                <a:solidFill>
                  <a:srgbClr val="ffffff"/>
                </a:solidFill>
                <a:latin typeface="Book Antiqua"/>
              </a:rPr>
              <a:t> 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push dir="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1 Verbe - Positif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0" y="1711440"/>
            <a:ext cx="9144000" cy="51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ffffff"/>
                </a:solidFill>
                <a:latin typeface="Book Antiqua"/>
              </a:rPr>
              <a:t>Il veut des tomates dans sa salade.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ff"/>
                </a:solidFill>
                <a:latin typeface="Book Antiqua"/>
              </a:rPr>
              <a:t>Always replacing __________________________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ff"/>
                </a:solidFill>
                <a:latin typeface="Book Antiqua"/>
              </a:rPr>
              <a:t>Replacing : __________________________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Book Antiqua"/>
              </a:rPr>
              <a:t>Où est-ce que je place « en » dans la phrase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ff"/>
                </a:solidFill>
                <a:latin typeface="Book Antiqua"/>
              </a:rPr>
              <a:t>TOUJOURS avant ____________________________ dans la phrase!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ff"/>
                </a:solidFill>
                <a:latin typeface="Book Antiqua"/>
              </a:rPr>
              <a:t>Verbe: ________________________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Book Antiqua"/>
              </a:rPr>
              <a:t>Élimine </a:t>
            </a:r>
            <a:r>
              <a:rPr b="1" lang="fr-CA" sz="2400" spc="-1" strike="noStrike" u="sng">
                <a:solidFill>
                  <a:srgbClr val="ffffff"/>
                </a:solidFill>
                <a:uFillTx/>
                <a:latin typeface="Book Antiqua"/>
              </a:rPr>
              <a:t>DE + WORD</a:t>
            </a:r>
            <a:r>
              <a:rPr b="1" lang="fr-CA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fr-CA" sz="2400" spc="-1" strike="noStrike">
                <a:solidFill>
                  <a:srgbClr val="ffffff"/>
                </a:solidFill>
                <a:latin typeface="Book Antiqua"/>
              </a:rPr>
              <a:t>and mets « en » devant le </a:t>
            </a:r>
            <a:r>
              <a:rPr b="0" lang="fr-CA" sz="2400" spc="-1" strike="noStrike" u="sng">
                <a:solidFill>
                  <a:srgbClr val="ffffff"/>
                </a:solidFill>
                <a:uFillTx/>
                <a:latin typeface="Book Antiqua"/>
              </a:rPr>
              <a:t>dernier</a:t>
            </a:r>
            <a:r>
              <a:rPr b="0" lang="fr-CA" sz="2400" spc="-1" strike="noStrike">
                <a:solidFill>
                  <a:srgbClr val="ffffff"/>
                </a:solidFill>
                <a:latin typeface="Book Antiqua"/>
              </a:rPr>
              <a:t> verbe: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ffffff"/>
                </a:solidFill>
                <a:latin typeface="Book Antiqua"/>
              </a:rPr>
              <a:t>_________________________________________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checker dir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1 Verbe - Négatif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0" y="1711440"/>
            <a:ext cx="9144000" cy="51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ffffff"/>
                </a:solidFill>
                <a:latin typeface="Book Antiqua"/>
              </a:rPr>
              <a:t>Il ne veut pas des tomates dans sa salade.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ff"/>
                </a:solidFill>
                <a:latin typeface="Book Antiqua"/>
              </a:rPr>
              <a:t>Always replacing _____________________________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ff"/>
                </a:solidFill>
                <a:latin typeface="Book Antiqua"/>
              </a:rPr>
              <a:t>Replacing: ___________________________________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Book Antiqua"/>
              </a:rPr>
              <a:t>Où est-ce que je place « en » dans la phrase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ff"/>
                </a:solidFill>
                <a:latin typeface="Book Antiqua"/>
              </a:rPr>
              <a:t>TOUJOURS avant ____________________________ dans la phrase!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ff"/>
                </a:solidFill>
                <a:latin typeface="Book Antiqua"/>
              </a:rPr>
              <a:t>Verbe: ________________________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Book Antiqua"/>
              </a:rPr>
              <a:t>Élimine </a:t>
            </a:r>
            <a:r>
              <a:rPr b="1" lang="fr-CA" sz="2400" spc="-1" strike="noStrike" u="sng">
                <a:solidFill>
                  <a:srgbClr val="ffffff"/>
                </a:solidFill>
                <a:uFillTx/>
                <a:latin typeface="Book Antiqua"/>
              </a:rPr>
              <a:t>DE + WORD</a:t>
            </a:r>
            <a:r>
              <a:rPr b="1" lang="fr-CA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fr-CA" sz="2400" spc="-1" strike="noStrike">
                <a:solidFill>
                  <a:srgbClr val="ffffff"/>
                </a:solidFill>
                <a:latin typeface="Book Antiqua"/>
              </a:rPr>
              <a:t>and mets « en » devant le </a:t>
            </a:r>
            <a:r>
              <a:rPr b="0" lang="fr-CA" sz="2400" spc="-1" strike="noStrike" u="sng">
                <a:solidFill>
                  <a:srgbClr val="ffffff"/>
                </a:solidFill>
                <a:uFillTx/>
                <a:latin typeface="Book Antiqua"/>
              </a:rPr>
              <a:t>dernier</a:t>
            </a:r>
            <a:r>
              <a:rPr b="0" lang="fr-CA" sz="2400" spc="-1" strike="noStrike">
                <a:solidFill>
                  <a:srgbClr val="ffffff"/>
                </a:solidFill>
                <a:latin typeface="Book Antiqua"/>
              </a:rPr>
              <a:t> verbe: N’OUBLIE PAS : </a:t>
            </a:r>
            <a:r>
              <a:rPr b="1" lang="fr-CA" sz="2400" spc="-1" strike="noStrike" u="sng">
                <a:solidFill>
                  <a:srgbClr val="ffffff"/>
                </a:solidFill>
                <a:uFillTx/>
                <a:latin typeface="Book Antiqua"/>
              </a:rPr>
              <a:t>__________________________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ffffff"/>
                </a:solidFill>
                <a:latin typeface="Book Antiqua"/>
              </a:rPr>
              <a:t>__________________________________________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dissolv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2 Verbes - Positif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0" y="1711440"/>
            <a:ext cx="9144000" cy="51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ffffff"/>
                </a:solidFill>
                <a:latin typeface="Book Antiqua"/>
              </a:rPr>
              <a:t>Il veut mettre de la laitue dans sa salade.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ff"/>
                </a:solidFill>
                <a:latin typeface="Book Antiqua"/>
              </a:rPr>
              <a:t>Always replacing ______________________________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ff"/>
                </a:solidFill>
                <a:latin typeface="Book Antiqua"/>
              </a:rPr>
              <a:t>Replacing: ___________________________________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Book Antiqua"/>
              </a:rPr>
              <a:t>Où est-ce que je place « en » dans la phrase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ff"/>
                </a:solidFill>
                <a:latin typeface="Book Antiqua"/>
              </a:rPr>
              <a:t>TOUJOURS avant ____________________________ dans la phrase!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ff"/>
                </a:solidFill>
                <a:latin typeface="Book Antiqua"/>
              </a:rPr>
              <a:t>Verbe: ________________________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Book Antiqua"/>
              </a:rPr>
              <a:t>Élimine </a:t>
            </a:r>
            <a:r>
              <a:rPr b="1" lang="fr-CA" sz="2400" spc="-1" strike="noStrike" u="sng">
                <a:solidFill>
                  <a:srgbClr val="ffffff"/>
                </a:solidFill>
                <a:uFillTx/>
                <a:latin typeface="Book Antiqua"/>
              </a:rPr>
              <a:t>DE + WORD</a:t>
            </a:r>
            <a:r>
              <a:rPr b="1" lang="fr-CA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fr-CA" sz="2400" spc="-1" strike="noStrike">
                <a:solidFill>
                  <a:srgbClr val="ffffff"/>
                </a:solidFill>
                <a:latin typeface="Book Antiqua"/>
              </a:rPr>
              <a:t>and mets « en » devant le </a:t>
            </a:r>
            <a:r>
              <a:rPr b="0" lang="fr-CA" sz="2400" spc="-1" strike="noStrike" u="sng">
                <a:solidFill>
                  <a:srgbClr val="ffffff"/>
                </a:solidFill>
                <a:uFillTx/>
                <a:latin typeface="Book Antiqua"/>
              </a:rPr>
              <a:t>dernier</a:t>
            </a:r>
            <a:r>
              <a:rPr b="0" lang="fr-CA" sz="2400" spc="-1" strike="noStrike">
                <a:solidFill>
                  <a:srgbClr val="ffffff"/>
                </a:solidFill>
                <a:latin typeface="Book Antiqua"/>
              </a:rPr>
              <a:t> verbe: ______________________________________________: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ffffff"/>
                </a:solidFill>
                <a:latin typeface="Book Antiqua"/>
              </a:rPr>
              <a:t>___________________________________________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cover dir="l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" dur="5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" dur="5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500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500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" dur="500"/>
                                        <p:tgtEl>
                                          <p:spTgt spid="3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2 Verbes - Négatif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0" y="1693440"/>
            <a:ext cx="914400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ffffff"/>
                </a:solidFill>
                <a:latin typeface="Book Antiqua"/>
              </a:rPr>
              <a:t>Il ne veut pas mettre des tomates dans sa salade.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ff"/>
                </a:solidFill>
                <a:latin typeface="Book Antiqua"/>
              </a:rPr>
              <a:t>Always replacing ___________________________________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ff"/>
                </a:solidFill>
                <a:latin typeface="Book Antiqua"/>
              </a:rPr>
              <a:t>Replacing: _____________________________________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Book Antiqua"/>
              </a:rPr>
              <a:t>Où est-ce que je place « en » dans la phrase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ff"/>
                </a:solidFill>
                <a:latin typeface="Book Antiqua"/>
              </a:rPr>
              <a:t>TOUJOURS avant ____________________________ dans la phrase!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ff"/>
                </a:solidFill>
                <a:latin typeface="Book Antiqua"/>
              </a:rPr>
              <a:t>Verbe: ________________________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Book Antiqua"/>
              </a:rPr>
              <a:t>Élimine </a:t>
            </a:r>
            <a:r>
              <a:rPr b="1" lang="fr-CA" sz="2400" spc="-1" strike="noStrike" u="sng">
                <a:solidFill>
                  <a:srgbClr val="ffffff"/>
                </a:solidFill>
                <a:uFillTx/>
                <a:latin typeface="Book Antiqua"/>
              </a:rPr>
              <a:t>DE + WORD</a:t>
            </a:r>
            <a:r>
              <a:rPr b="1" lang="fr-CA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fr-CA" sz="2400" spc="-1" strike="noStrike">
                <a:solidFill>
                  <a:srgbClr val="ffffff"/>
                </a:solidFill>
                <a:latin typeface="Book Antiqua"/>
              </a:rPr>
              <a:t>and mets « en » devant le </a:t>
            </a:r>
            <a:r>
              <a:rPr b="0" lang="fr-CA" sz="2400" spc="-1" strike="noStrike" u="sng">
                <a:solidFill>
                  <a:srgbClr val="ffffff"/>
                </a:solidFill>
                <a:uFillTx/>
                <a:latin typeface="Book Antiqua"/>
              </a:rPr>
              <a:t>dernier</a:t>
            </a:r>
            <a:r>
              <a:rPr b="0" lang="fr-CA" sz="2400" spc="-1" strike="noStrike">
                <a:solidFill>
                  <a:srgbClr val="ffffff"/>
                </a:solidFill>
                <a:latin typeface="Book Antiqua"/>
              </a:rPr>
              <a:t> verbe: __________________________________________: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ffffff"/>
                </a:solidFill>
                <a:latin typeface="Book Antiqua"/>
              </a:rPr>
              <a:t>_________________________________________.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pull dir="l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0" dur="1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5" dur="10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8" dur="10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3" dur="10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6" dur="10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9" dur="1000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4" dur="1000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9" dur="1000"/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How do I do this?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90080" y="2019240"/>
            <a:ext cx="8953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ross out the DE + WORD in your sentence.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457200" indent="-457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457200" indent="-457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eplace it with “en”.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457200" indent="-457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457200" indent="-457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ut “en”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before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the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1 verb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r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between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the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2 verbs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.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REMEMBER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: There could be ONE verb or TWO verbs!!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0028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f there are TWO verbs, _________________________________________________________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457200" indent="-457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Book Antiqua"/>
              <a:buChar char="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randomBar dir="vert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" dur="5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6" dur="5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Exemples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84" name="TextBox 14"/>
          <p:cNvSpPr/>
          <p:nvPr/>
        </p:nvSpPr>
        <p:spPr>
          <a:xfrm>
            <a:off x="423720" y="1870200"/>
            <a:ext cx="829656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Tu mets du ketchup sur tes frites.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1)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2)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3)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>
    <p:split dir="out" orient="vert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9T15:50:51Z</dcterms:created>
  <dc:creator>Sarah</dc:creator>
  <dc:description/>
  <dc:language>en-US</dc:language>
  <cp:lastModifiedBy>Biega, Sarah</cp:lastModifiedBy>
  <cp:lastPrinted>2015-04-15T11:19:32Z</cp:lastPrinted>
  <dcterms:modified xsi:type="dcterms:W3CDTF">2015-04-15T11:19:41Z</dcterms:modified>
  <cp:revision>33</cp:revision>
  <dc:subject/>
  <dc:title>Le pronom « en »</dc:title>
</cp:coreProperties>
</file>